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985080" cy="9285120"/>
          </a:xfrm>
          <a:custGeom>
            <a:avLst/>
            <a:gdLst>
              <a:gd name="textAreaLeft" fmla="*/ 360 w 6985080"/>
              <a:gd name="textAreaRight" fmla="*/ 6984720 w 6985080"/>
              <a:gd name="textAreaTop" fmla="*/ 360 h 9285120"/>
              <a:gd name="textAreaBottom" fmla="*/ 9284760 h 9285120"/>
            </a:gdLst>
            <a:ahLst/>
            <a:rect l="textAreaLeft" t="textAreaTop" r="textAreaRight" b="textAreaBottom"/>
            <a:pathLst>
              <a:path w="21600" h="28712">
                <a:moveTo>
                  <a:pt x="4" y="0"/>
                </a:moveTo>
                <a:arcTo wR="4" hR="4" stAng="16200000" swAng="-5400000"/>
                <a:lnTo>
                  <a:pt x="0" y="28708"/>
                </a:lnTo>
                <a:arcTo wR="4" hR="4" stAng="10800000" swAng="-5400000"/>
                <a:lnTo>
                  <a:pt x="21596" y="2871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01464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head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957120" y="-1800"/>
            <a:ext cx="301500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81160" y="705960"/>
            <a:ext cx="4610160" cy="345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8400" cy="4164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8818200"/>
            <a:ext cx="301464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957120" y="8818200"/>
            <a:ext cx="301500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B7316-6DC9-4273-B386-85803F69FB66}" type="slidenum">
              <a: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81160" y="706320"/>
            <a:ext cx="4614840" cy="34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984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81160" y="706320"/>
            <a:ext cx="462276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984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81160" y="706320"/>
            <a:ext cx="461304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984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81160" y="706320"/>
            <a:ext cx="461304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984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81160" y="706320"/>
            <a:ext cx="461304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984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81160" y="706320"/>
            <a:ext cx="461304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984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81160" y="706320"/>
            <a:ext cx="461304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984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81160" y="706320"/>
            <a:ext cx="461304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984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4490-EDD9-4392-905E-68186B190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1516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4640" y="3818880"/>
            <a:ext cx="771516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BB76-DCD2-4963-94A7-84CB660F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4640" y="381888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88160" y="381888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7B8C-972F-4594-94E4-ADF4088E4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3200" y="167652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1760" y="167652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4640" y="381888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3200" y="381888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1760" y="381888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597D-7FAE-4EFD-ADED-531BB58F9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17CE-C257-4288-B046-C565ECAB7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1516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C935-17F5-4400-B8CC-61E3E4D0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1516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E976-2B9F-4548-89A7-79B44F5E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ADB1-B257-4343-8F37-C3EEAD39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97DD-1044-4CB8-BC69-5BEAB8A4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720" y="130320"/>
            <a:ext cx="77594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6EC7-B824-425A-9837-92B50F5B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4640" y="381888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DA95-202E-4115-A8C3-7C6BAD63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1516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D95F-A700-4BF7-9708-5EB4BE66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88160" y="381888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9429-9E6A-406F-BC7E-9BAE43E0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4640" y="3818880"/>
            <a:ext cx="771516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9322-51BC-4B26-B2D9-86DAF34C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1516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4640" y="3818880"/>
            <a:ext cx="771516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495E-8542-467B-988E-83FBFF27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4640" y="381888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88160" y="381888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AED9-B428-4344-B622-331CD9BD6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3200" y="167652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51760" y="167652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4640" y="381888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3200" y="381888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51760" y="381888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A909-5B3B-4B39-9112-5BC40AD62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1516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1F52-4486-41A3-BB08-7656F3A6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2F29-AA58-4165-93A7-A9C9CAF3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DE09-91A6-4CAA-90C4-13F2AE53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130320"/>
            <a:ext cx="77594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AF15-DA4E-4F2B-AA1B-4B5622E1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4640" y="381888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6CFF-3D43-45E9-86C6-2C09DF66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88160" y="381888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A074-B1D2-43F4-B855-9B543A4D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4640" y="3818880"/>
            <a:ext cx="771516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B01D-AB25-4382-9171-D16518B1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7315200" y="5510160"/>
            <a:ext cx="1828800" cy="1347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1516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23280" indent="-323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15320" indent="-267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1996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56816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520" y="6171840"/>
            <a:ext cx="189252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8288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1840"/>
            <a:ext cx="189216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E4F1D-2C8B-4FA7-ADC2-2246A7EA5AAF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440" y="2967120"/>
            <a:ext cx="8026560" cy="144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1150560"/>
            <a:ext cx="775980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520" y="6248520"/>
            <a:ext cx="189252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288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89216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F6E57-167B-4761-8D07-A82DB7F00F58}" type="slidenum">
              <a: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30080" indent="-2728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0" y="198360"/>
            <a:ext cx="6858000" cy="27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GMOD Meeting</a:t>
            </a:r>
            <a:br>
              <a:rPr sz="4400"/>
            </a:b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OICR</a:t>
            </a:r>
            <a:br>
              <a:rPr sz="4400"/>
            </a:b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July 16-17, 2008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7315200" cy="175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Scott Cai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GMOD Project Coordinator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Cold Spring Harbor Laboratory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2133720" cy="1573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77480"/>
            <a:ext cx="829620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Good stuff since the last meeting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184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26520" indent="-3265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mod 1.0!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6520" indent="-3265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 few Apollo release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6520" indent="-3265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map 1.0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6520" indent="-3265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MOD summer schoo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6520" indent="-3265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mmunity Annotation System 1.0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6520" indent="-3265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arameciumDB annotation jambore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6520" indent="-3265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rthropod Genomics meeting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177480"/>
            <a:ext cx="776268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What's in GMOD 1.0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35000" y="1676520"/>
            <a:ext cx="771840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aterialized views (thanks SGN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ntology updates (thanks again SGN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tock module (thanks ParameciumDB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mproved GFF loading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elete by GFF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177480"/>
            <a:ext cx="776268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What's on tap for GMOD 1.1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35000" y="1676520"/>
            <a:ext cx="771840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o schema changes (yet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inor Apollo compatibility stuff (although that problem's already been fixed by Ed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inor fix to GFF3 preprocessing tool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177480"/>
            <a:ext cx="776268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AS 1.1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35000" y="1676520"/>
            <a:ext cx="771840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r 1.1, a release of CAS-utils 0.1: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30080" indent="-27288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pollo-GBrowse CGI using a conf fi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30080" indent="-27288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 installer (MB?) to make it pret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y CAS-utils 0.1?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30080" indent="-27288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ummer school convinced me both of the need and feasibili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MODWeb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176040"/>
            <a:ext cx="77612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GMOD Summer School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35000" y="1676520"/>
            <a:ext cx="771696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July 11-13 at NESCent (North Carolina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5 students, 4 instructor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igh level of competence (students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vered: Chado theory and practice, GBrowse, Apollo, CMap, CA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enerally good review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360" y="177480"/>
            <a:ext cx="776268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What's up for this meeting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35000" y="1676520"/>
            <a:ext cx="771840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alk about core GMOD/CAS components: GBrowse, Apollo, MediaWiki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MOD help desk stuff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nterMin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mmon Gene Pages (again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131400"/>
            <a:ext cx="776268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Without further adieu..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